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wmf" ContentType="image/x-wmf"/>
  <Override PartName="/ppt/media/image19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1.gif" ContentType="image/gif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5D3B-FCD4-477E-96D9-BAB852C4C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2FC-A7FA-490F-8CC3-2319201F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4FFE-F772-4083-931B-9C55F01D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7BA07-8DF3-402A-8920-A27B8EB3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7C81E-5197-4D3D-856E-F5ECDD40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3A20C-86D6-48CC-AC5F-01A64149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F96F2-1174-4C7F-83B8-5E5DE6D2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D77C3-23A6-47F0-A0C6-7CF0A328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30932-0798-4EF4-840D-6106A6C8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D16C3-9283-490B-B11E-E311168F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C6F98-5A6A-4FEC-8FDC-7F5FCDBB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58AA1-01F3-480D-A770-BE999847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3DF30-67D3-459C-9F9A-C2690D35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64AE-B70B-485E-BCCF-6757763F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778D6-A671-4339-92C6-2A13EE4F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CDE90-2F29-4CC6-9BEB-22EC24E3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8A4EC-51DF-42F4-AB19-D7073F93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B255E-4E68-446F-9AD2-AA00523D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444F6-A4DA-4D0C-B56A-C12D9A1D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17D25-8528-4F98-B0BE-43A749C8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73D67-B43A-4D0F-B251-2623F857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C8B44-2616-4D2D-AC5A-1ED5B390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CF7FF-1F11-4252-8BFB-619879CE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05DB2-1DF5-4F48-B387-8599AB7E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990F-EF46-42AA-ACBF-70FE7BAA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DEE04-DEE8-47B4-9D07-B6244917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1AB2D-DF18-4561-A7BE-FB282E23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62930-414B-4F3A-8376-9CC51666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4A952-AE1B-4028-8488-F831E483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543AF-B953-4043-A90E-4777D6BA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C0C0A-7560-4315-834B-044B65DE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F75C5-EB8D-4FCF-B127-863567CE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359F6-0EBB-4A73-AA79-0531D3E1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B9975-1347-4194-86F6-4E96C316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A63CA-F8D2-4DD7-B868-3B6DF8C9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E9E3-AABA-44CA-B162-36EE445F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E7094-3E85-4AA5-AEFD-27D91B67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D5E2B-2F88-4108-9E60-C3D19DD9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99002-C954-4229-A298-0D028E9F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E6C16-E841-4E0C-8C9D-D28AC319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5151D-399E-4A87-B471-5A41B58E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B79E3-9021-4C3C-A542-B10B3D43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D90B7-DD90-46AF-9E04-1FCC7E37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03E6F5-253E-4A10-8DDF-6AA6C8D0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EF5BA-41BB-49A7-9D82-4BF8A1D5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1463A-1E87-4546-8F7E-A68CF211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3831-75B2-4C48-8CE8-C437681E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F43F4E-8358-4FE0-AAF3-08D735DD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D701D-96B4-4DB9-B2D4-3B1F2C96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E627A-3EA6-43D0-973E-D7F084DD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55C01-D98F-48AC-9620-D2C15B19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C5070-323B-4B39-86D2-0BD57F83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1BEAFC-6483-4D88-A3EB-84EAB879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8AB6EE-2DD0-4E93-9565-6BF229E3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691D6-066F-47CA-AF85-625EC5AB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6FA37B-29DF-486E-A154-AA1FF593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D2BE0B-EA00-4EDB-AD98-780F11C4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7290-429E-478F-9845-DF827B76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450B32-3DC5-4269-A71B-3279B14B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4A27E1-AF84-47D7-B3D2-C9374787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464755-A001-4C59-A5EB-AEB20F7F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2FA1F9-E210-473B-B9BA-243A2C69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7D18D3-5330-488B-B6F1-9990480D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B05843-8A79-4CCE-94BD-AA360454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9CE601-2D6B-4208-AE26-8B388E19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5021-35F0-4B73-88ED-5FF82417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CCB7-E9F4-4E46-98FC-3276B074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7068-D75F-4777-B738-098D565E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B4A2-E86A-4E70-9309-428D0CA4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E013-AA48-45F7-A4D8-177E3E21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0F0E-900E-4C8C-82A8-CA18AF98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8813-644F-4154-870F-75173FED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9C0C-2338-4BFF-95E4-D704BF93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57CD-C277-46FA-BAD5-FE3144C8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CB29-35B2-4807-81F6-9597ACFF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899CE-1779-48BA-B2EB-5C7026A1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BC24C-3C1D-4C4D-A05D-6289B3BC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F1DB1-BDF1-4DA9-96E4-89473D34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B1405-9A22-424F-95B2-9050F0DB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9FC5B-C3BB-4453-B79A-BDBD8F5D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A938-41EF-49E8-B3CA-00EB0FCA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05507-66E4-4FF1-BF0E-13FA82D2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D5D81-8C38-4D94-B080-7F1F4D8D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9881F-12C1-49D7-BAD5-A5429677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4BF52-E7C9-4D71-9713-0F0B7B49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1823A-F0FE-4792-A6F4-29AAF1D1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03548-AEDB-49E3-99FE-6CB1B10A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F43CA-00B3-42C4-9AB8-A8B35146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99511-0300-4C04-AE5F-38B93BE2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48E8E-4751-495B-A1D0-1DEB4CC6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C3DE4-5ACD-4A7C-BE14-D575AB45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6E11-7CDB-47B8-A7E0-3DBD0CFE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F3E1B-4E43-41BD-80D6-739475F7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3EC77-B484-4EF5-81D6-2712A996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415AC-5C06-4BE9-92A8-754B64D7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63773-3CF9-4C0D-AEDD-0EEEA1A2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8D847-05A1-4FB4-9BFF-AEEA46F8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52548-3A3D-4507-880E-46DA0F2E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89640-9DFE-4A56-8695-4F49177A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3BC24-01EC-414D-A6DA-5A7E810A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340B8-813F-4B5B-9C11-219ED052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D0704-8F51-4212-88AC-EAE026B5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A266-2CDB-4FFC-A10A-D2CE0D92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86858-6C5F-457A-8CFD-6E7264CF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9EC22-A32D-4A4D-BE0E-9D9CD5A1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E2F20-4E0F-4729-878D-BD79B74B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03606-DE57-47A5-9BA2-DDAD725A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42FDC-25B6-4FB3-9DA7-4FF0D626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BECA0-1A1C-4849-8265-8527E8BE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25932-EC51-453B-86D3-DB87C47A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51025-BD2D-421A-B636-6CA2909F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9CB06-96F0-437D-AB62-FD3FDA2D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41AC1-D28D-4DF7-B5AD-7B796A26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7674-2D2A-4FE2-A544-9ACFB502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44E71-1FC7-41E7-BD62-4D51C8AB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5C134-98FA-4846-AFF6-305B85AA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DE5B0-A5B9-47D1-B3AA-4D4D9098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07258-D809-4AE1-81E7-B312A366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01ADC-C299-4CF3-AE73-C0F7E238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39ECD-192B-4DAD-86FE-8FF13EF0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85D41-9C87-4418-8A42-E23C65FA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32248-D673-4D0F-A835-1E668609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5B4A1-AAAE-4A2B-9CEB-B91E1EC9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E7126-4932-47FE-ADD7-3219B9D4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267E-9444-416C-8931-C4BE0AE0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69EBC-4F14-4115-AC4A-4A8AEC3C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74507-3580-4330-9183-A91A0B7D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7B562-AFED-48C4-81E7-0245AD60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AD0FB-6E9D-4B44-8B15-60C0F4AA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6DCE2-04F9-438B-9B7A-EF02D7E0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AA8D5-375D-46BB-B0E7-5565B6FA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FF317-1441-45B3-93C3-96CD9126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13EC6-8303-484E-BB1E-09403EE0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2AD2F-A4CB-4A17-B8CF-4CD902C7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8D70D-A61D-4CE0-92F4-BB0E3696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BE49-061B-4735-91FF-963A4661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11739-92E1-4955-B196-7A32AB2C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F2264-68CE-4875-8B47-C43B3B9D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CFAB4-55C1-4D1E-AC4B-B90CFC0D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81A8D-9346-4E42-8885-F9932AA0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FB446-9FAA-49FD-AB41-3ABF6355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9999D-3E24-483B-A6C4-364CD934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E8BA0-82E3-4364-94FD-34B07930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A0141-768A-450D-AB85-28C292E3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ED878-C8F1-42C6-BAD7-0AE731D8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530FF-9BA1-409A-8EA0-A211565A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C136-D3D6-4FBE-83AA-EC1804A1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58A2D-87FA-47D9-87FC-BADB2448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5BB40-E89F-466E-8FC3-0BF17BE7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56B1C-48B2-43FC-A995-592E6383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7DCE0-17A8-4BBC-A018-D843A0F6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D41A8-E5E7-447C-89A1-B07160EC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97C45-2E4E-4D23-89AC-F18865DC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23585-D210-4816-A6CA-9398904BD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CC6E9-1C27-43DE-B02E-D76855BC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0AB58-CAF1-49FA-91CF-D1F6E1E9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182C1-78F0-4249-B97D-A1DA4F73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0451-14BF-42AF-9F92-E9348209AF0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0186-9139-4675-A999-27E21EE47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976C-658E-4ABB-9406-D642CB1A8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33E3-FD0A-48B4-B8BE-77481619E4B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74A8-DE47-40D2-B5EA-DF4FCC41E41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FFF3-5721-4464-BD92-93C3C8068B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CC1B-233D-41CE-8838-237078D5F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A1CB-A6D2-4D28-81AF-2A7E1C3D778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DDDC-7EDE-407A-AE4C-87E53ED24A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6632-AA86-493E-A36A-4138B61573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D049-E7E0-408F-B8CD-277ECC27F4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13E1-C794-4713-83DF-450E08B52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D97D-C19A-49D2-81D2-505B8953D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Quick Review -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Meiosi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division of cells which results in the production of gamet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Gamete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lso known as sex cells, germ cells, or spores; cells of sexual reproduction, which contain only half the chromosomes of a normal cell highered.mcgraw-hill.com/sites/0072549238/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student_view0/glossary.html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Chromosomes -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Threadlike bodies found in the nucleus, or center part, of a cell that carry the information of heredit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www.sharedexperience.org/Glossary.lasso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a female and male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Broadway"/>
              </a:rPr>
              <a:t>fertilization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- the combining of game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Produces </a:t>
            </a:r>
            <a:r>
              <a:rPr b="0" i="1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genetic diversity</a:t>
            </a: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 - variation among and within species that is attributable to differences in hereditary material.</a:t>
            </a:r>
            <a:br>
              <a:rPr sz="3000"/>
            </a:br>
            <a:r>
              <a:rPr b="0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www.for.gov.bc.ca/hfd/library/documents/glossary/G.htm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Picture 4" descr="big_nose"/>
          <p:cNvPicPr/>
          <p:nvPr/>
        </p:nvPicPr>
        <p:blipFill>
          <a:blip r:embed="rId1"/>
          <a:stretch/>
        </p:blipFill>
        <p:spPr>
          <a:xfrm>
            <a:off x="3429000" y="3276720"/>
            <a:ext cx="106668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4" descr="bleak landscape"/>
          <p:cNvPicPr/>
          <p:nvPr/>
        </p:nvPicPr>
        <p:blipFill>
          <a:blip r:embed="rId1">
            <a:lum contrast="18000"/>
            <a:alphaModFix am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Possible Rea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EXTINCTION!!!!</a:t>
            </a: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	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ut, my sister does have a big nose.  So the human species is saved.  Kinda makes big noses pretty attractive now, doesn’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4" descr="big nose girl"/>
          <p:cNvPicPr/>
          <p:nvPr/>
        </p:nvPicPr>
        <p:blipFill>
          <a:blip r:embed="rId1"/>
          <a:stretch/>
        </p:blipFill>
        <p:spPr>
          <a:xfrm>
            <a:off x="2286000" y="3657600"/>
            <a:ext cx="39625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Broadway"/>
              </a:rPr>
              <a:t>So what can we conclude about Sexual Reproduction?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43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it produces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diversity ensures survival of a species in an environment tha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oadway"/>
              </a:rPr>
              <a:t>Sexual Reproduc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Broadway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cess in which two cells, termed gametes, come together to form one </a:t>
            </a:r>
            <a:r>
              <a:rPr b="0" lang="en-US" sz="1800" spc="-1" strike="noStrike">
                <a:solidFill>
                  <a:srgbClr val="0066ff"/>
                </a:solidFill>
                <a:latin typeface="Broadway"/>
              </a:rPr>
              <a:t>fertilized</a:t>
            </a: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 cell that contains genetic information from both parental cells.   ucbiotech.org/glossary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duction of offspring whose genetic constitution is a mixture of that of two potentially genetically different gamete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evolution.unibe.ch/teaching/GlossarE.ht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Q:  How many of you have more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than one pa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" descr="man_woman_walking_holding_hands_lg_wm"/>
          <p:cNvPicPr/>
          <p:nvPr/>
        </p:nvPicPr>
        <p:blipFill>
          <a:blip r:embed="rId1"/>
          <a:stretch/>
        </p:blipFill>
        <p:spPr>
          <a:xfrm>
            <a:off x="2895480" y="41148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5"/>
          <p:cNvSpPr/>
          <p:nvPr/>
        </p:nvSpPr>
        <p:spPr>
          <a:xfrm>
            <a:off x="457200" y="2286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hen, everyone in this room is a product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of sexual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6242760" y="636264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nimationFactor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a female and male parent (i.e. it takes two to tan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Q:  Why do we need more than 1 pa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6" descr="MCj03981910000[1]"/>
          <p:cNvPicPr/>
          <p:nvPr/>
        </p:nvPicPr>
        <p:blipFill>
          <a:blip r:embed="rId1"/>
          <a:stretch/>
        </p:blipFill>
        <p:spPr>
          <a:xfrm>
            <a:off x="1143000" y="3809880"/>
            <a:ext cx="1558800" cy="18147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8" descr="MCj03981910000[1]"/>
          <p:cNvPicPr/>
          <p:nvPr/>
        </p:nvPicPr>
        <p:blipFill>
          <a:blip r:embed="rId2"/>
          <a:stretch/>
        </p:blipFill>
        <p:spPr>
          <a:xfrm>
            <a:off x="4724280" y="3809880"/>
            <a:ext cx="1559160" cy="181476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9"/>
          <p:cNvSpPr/>
          <p:nvPr/>
        </p:nvSpPr>
        <p:spPr>
          <a:xfrm>
            <a:off x="533520" y="44197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½                   +      ½                 </a:t>
            </a:r>
            <a:r>
              <a:rPr b="1" lang="en-US" sz="3600" spc="-1" strike="noStrike">
                <a:solidFill>
                  <a:srgbClr val="000000"/>
                </a:solidFill>
                <a:latin typeface="Broadway"/>
              </a:rPr>
              <a:t>= 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Requires a female and male par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So, by what we’ve discussed, in sexual reproduction “mom” donates half, and “dad” donates half.  How does this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Fertilization"/>
          <p:cNvPicPr/>
          <p:nvPr/>
        </p:nvPicPr>
        <p:blipFill>
          <a:blip r:embed="rId1"/>
          <a:stretch/>
        </p:blipFill>
        <p:spPr>
          <a:xfrm>
            <a:off x="2666880" y="2590920"/>
            <a:ext cx="3276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Requires a female and ma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</a:t>
            </a:r>
            <a:r>
              <a:rPr b="0" i="1" lang="en-US" sz="3200" spc="-1" strike="noStrike" u="sng">
                <a:solidFill>
                  <a:srgbClr val="0066ff"/>
                </a:solidFill>
                <a:uFillTx/>
                <a:latin typeface="Broadway"/>
              </a:rPr>
              <a:t>fertilization</a:t>
            </a: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 - the combining of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7" descr="dancing baby 2"/>
          <p:cNvPicPr/>
          <p:nvPr/>
        </p:nvPicPr>
        <p:blipFill>
          <a:blip r:embed="rId1"/>
          <a:stretch/>
        </p:blipFill>
        <p:spPr>
          <a:xfrm>
            <a:off x="685800" y="2666880"/>
            <a:ext cx="2095560" cy="1905120"/>
          </a:xfrm>
          <a:prstGeom prst="rect">
            <a:avLst/>
          </a:prstGeom>
          <a:ln w="0">
            <a:noFill/>
          </a:ln>
        </p:spPr>
      </p:pic>
      <p:pic>
        <p:nvPicPr>
          <p:cNvPr id="562" name="disco baby music.mid" descr=""/>
          <p:cNvPicPr/>
          <p:nvPr/>
        </p:nvPicPr>
        <p:blipFill>
          <a:blip r:embed="rId2"/>
          <a:stretch/>
        </p:blipFill>
        <p:spPr>
          <a:xfrm>
            <a:off x="8153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9" descr="disco baby"/>
          <p:cNvPicPr/>
          <p:nvPr/>
        </p:nvPicPr>
        <p:blipFill>
          <a:blip r:embed="rId3"/>
          <a:stretch/>
        </p:blipFill>
        <p:spPr>
          <a:xfrm>
            <a:off x="6019920" y="2514600"/>
            <a:ext cx="2133360" cy="17064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10"/>
          <p:cNvSpPr/>
          <p:nvPr/>
        </p:nvSpPr>
        <p:spPr>
          <a:xfrm>
            <a:off x="898560" y="4305240"/>
            <a:ext cx="75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ake a moment to write down one trait that is different and in what way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s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1"/>
          <p:cNvSpPr/>
          <p:nvPr/>
        </p:nvSpPr>
        <p:spPr>
          <a:xfrm>
            <a:off x="228600" y="63626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*Dancing baby graphics and music courtesy of MegaBaby.com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RomaK</cp:lastModifiedBy>
  <dcterms:modified xsi:type="dcterms:W3CDTF">2015-09-04T11:08:30Z</dcterms:modified>
  <cp:revision>14</cp:revision>
  <dc:subject/>
  <dc:title>Sexual Reproduction</dc:title>
</cp:coreProperties>
</file>